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D2F-5196-4889-95D4-78B9CA5D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E56-12CE-45C6-BE30-2C7B7F83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D0D-EC28-433E-8840-09EC1804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519-7DD5-4549-A872-FB55013A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782-CD6C-4067-92DE-0420D53D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7522-1F0A-40C7-9C6D-2081CB28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7F1-CF1F-4278-A69E-100CF5B4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998-8B58-44A4-9F38-A3944CCB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CBC-0718-4012-ACFD-6D1B18FF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B96-3FB4-4AE6-B352-BB8F496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9454-0242-4611-ABF0-C90D752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F0B-4AAA-44D3-98F6-6B4503B3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DAAF-7DD6-41A3-9E7C-EDA66ED1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Ride the New 25-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Mountain Bike Tr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dwardian Script ITC"/>
              </a:rPr>
              <a:t>Veteran’s Pa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828800"/>
            <a:ext cx="8534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 rot="19833600">
            <a:off x="228600" y="5028840"/>
            <a:ext cx="2438280" cy="12193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ownhi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38040" y="380880"/>
            <a:ext cx="8467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5 Miles of bone-breaking, skull-crushing fu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downhi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43040" y="304920"/>
            <a:ext cx="5857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ozuka Gothic Pro B"/>
              </a:rPr>
              <a:t>Trails Vary from Sand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ozuka Gothic Pro B"/>
              <a:ea typeface="Kozuka Gothic Pro 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ownhi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52280" y="-76320"/>
            <a:ext cx="4343400" cy="19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o Ston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mud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229360" y="3619440"/>
            <a:ext cx="383832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o Mud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urb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143000" y="457200"/>
            <a:ext cx="68580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We Even Have Pavement Trai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scen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52400" y="3108240"/>
            <a:ext cx="7639200" cy="199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 Come and Enjoy Yourself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26:11Z</dcterms:created>
  <dc:creator>762923</dc:creator>
  <dc:description/>
  <dc:language>en-US</dc:language>
  <cp:lastModifiedBy>762923</cp:lastModifiedBy>
  <dcterms:modified xsi:type="dcterms:W3CDTF">2009-03-30T16:10:57Z</dcterms:modified>
  <cp:revision>3</cp:revision>
  <dc:subject/>
  <dc:title>Slide 1</dc:title>
</cp:coreProperties>
</file>